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BD0-DFF6-4911-B912-6F7FADC4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CB2-CD8E-4AF0-8543-71C0F8DC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8191-ACC1-4E18-9CF5-018E394C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65E0-4904-4DEB-BF85-801164DB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A1DF-D8D6-4FE7-BD07-6CC39AF1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CD42-ECFF-4ED0-B832-D67D5495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DE31-9BEE-4B64-A587-498CFAB2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1F46-104A-4D91-B988-A1F26400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B0CD-727B-490E-B1FA-B03123DB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96CE-9678-40EE-B530-D36999F6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A1CF-917B-45A1-9677-99931F5D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359-EB93-4DB6-814E-369E7940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D7F5-0F55-4B3A-BBFF-37DCE120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D89C-AA8C-449C-BE0B-32FE5831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6127-28CA-47DD-9355-5FB73E0A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89A8-98FE-404D-91BE-B2468112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9F03-C4A9-4214-A91B-7B0F72C1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FD92-1CEA-4E9B-B1A9-E243B5D0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B7C9-EBC4-4013-9454-682C0D16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7752-3C76-48D4-BEE5-4B7D3656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3CEB-5D2F-4518-B26B-27B4DB1D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E7D9-71C6-4428-99F0-DA35CC2B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9EBA-EBD4-4C62-97B8-45EBA61B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025E-FAA4-418E-94F0-81F0084C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A8A2-E25E-4A63-8C30-8932DB25601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E56A-86B5-4EC5-9557-30ABFDEA3C4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uchportal.ru/" TargetMode="External"/><Relationship Id="rId3" Type="http://schemas.openxmlformats.org/officeDocument/2006/relationships/hyperlink" Target="http://www.school.edu.ru/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493560"/>
            <a:ext cx="8242200" cy="2054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для ур"/>
          <p:cNvPicPr/>
          <p:nvPr/>
        </p:nvPicPr>
        <p:blipFill>
          <a:blip r:embed="rId2"/>
          <a:stretch/>
        </p:blipFill>
        <p:spPr>
          <a:xfrm>
            <a:off x="2357280" y="2714760"/>
            <a:ext cx="431640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783640" cy="1670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571680" y="1928520"/>
            <a:ext cx="81864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облемные вопросы учебной те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Почему цилиндр называется цилиндро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Цилиндр – тело, полученное вращением прямоугольника вокруг одной из его сторон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8" descr="t"/>
          <p:cNvPicPr/>
          <p:nvPr/>
        </p:nvPicPr>
        <p:blipFill>
          <a:blip r:embed="rId2"/>
          <a:stretch/>
        </p:blipFill>
        <p:spPr>
          <a:xfrm>
            <a:off x="3357720" y="4286160"/>
            <a:ext cx="2546280" cy="235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00040" y="17856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- познакомятся с понятием цилиндра, цилиндрической поверх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- узнают, что представляет собой сечение цилиндр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- смогут найти объем цилиндра по формул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знают как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находить площадь поверхности цилиндра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- научатся создавать буклеты, презент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000080" y="12859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В ходе проекта учащие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_"/>
          <p:cNvPicPr/>
          <p:nvPr/>
        </p:nvPicPr>
        <p:blipFill>
          <a:blip r:embed="rId2"/>
          <a:stretch/>
        </p:blipFill>
        <p:spPr>
          <a:xfrm>
            <a:off x="2357280" y="1428840"/>
            <a:ext cx="3786480" cy="504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3217"/>
          <p:cNvPicPr/>
          <p:nvPr/>
        </p:nvPicPr>
        <p:blipFill>
          <a:blip r:embed="rId3"/>
          <a:stretch/>
        </p:blipFill>
        <p:spPr>
          <a:xfrm>
            <a:off x="2000160" y="1714680"/>
            <a:ext cx="4978440" cy="4606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272_0"/>
          <p:cNvPicPr/>
          <p:nvPr/>
        </p:nvPicPr>
        <p:blipFill>
          <a:blip r:embed="rId4"/>
          <a:stretch/>
        </p:blipFill>
        <p:spPr>
          <a:xfrm>
            <a:off x="1643040" y="1500120"/>
            <a:ext cx="5538960" cy="5124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getimg"/>
          <p:cNvPicPr/>
          <p:nvPr/>
        </p:nvPicPr>
        <p:blipFill>
          <a:blip r:embed="rId5"/>
          <a:stretch/>
        </p:blipFill>
        <p:spPr>
          <a:xfrm>
            <a:off x="1928880" y="1428840"/>
            <a:ext cx="5481720" cy="507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566720" y="420840"/>
            <a:ext cx="779652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642960" y="192852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Учебные вопросы для 1-й групп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Что такое цилиндр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акова формула площади поверхностей цилиндр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Учебные вопросы для 2-й групп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Что называется сечением цилиндр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акова формула объема цилиндр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Учебные вопросы для 3-й групп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Что представляет собой цилиндрическая поверхнос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Что называется касательной плоскостью цилиндр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TEACHER"/>
          <p:cNvPicPr/>
          <p:nvPr/>
        </p:nvPicPr>
        <p:blipFill>
          <a:blip r:embed="rId2"/>
          <a:stretch/>
        </p:blipFill>
        <p:spPr>
          <a:xfrm>
            <a:off x="285840" y="285840"/>
            <a:ext cx="167148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горелов А. В. Геометрия, 7-11.- М.: Просвещение, 1998. – 383 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Book Antiqua"/>
                <a:hlinkClick r:id="rId2"/>
              </a:rPr>
              <a:t>http://www.uchportal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Book Antiqua"/>
                <a:hlinkClick r:id="rId3"/>
              </a:rPr>
              <a:t>www.school.edu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5" descr="matem"/>
          <p:cNvPicPr/>
          <p:nvPr/>
        </p:nvPicPr>
        <p:blipFill>
          <a:blip r:embed="rId4"/>
          <a:stretch/>
        </p:blipFill>
        <p:spPr>
          <a:xfrm>
            <a:off x="2786040" y="4071960"/>
            <a:ext cx="375300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WordArt 4" descr=""/>
          <p:cNvPicPr/>
          <p:nvPr/>
        </p:nvPicPr>
        <p:blipFill>
          <a:blip r:embed="rId1"/>
          <a:stretch/>
        </p:blipFill>
        <p:spPr>
          <a:xfrm>
            <a:off x="-401760" y="2651040"/>
            <a:ext cx="9668160" cy="2854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11876925370"/>
          <p:cNvPicPr/>
          <p:nvPr/>
        </p:nvPicPr>
        <p:blipFill>
          <a:blip r:embed="rId2"/>
          <a:stretch/>
        </p:blipFill>
        <p:spPr>
          <a:xfrm>
            <a:off x="500040" y="714240"/>
            <a:ext cx="259704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9:58:43Z</dcterms:created>
  <dc:creator>Олюшка</dc:creator>
  <dc:description/>
  <dc:language>en-US</dc:language>
  <cp:lastModifiedBy>Олюшка</cp:lastModifiedBy>
  <dcterms:modified xsi:type="dcterms:W3CDTF">2010-05-20T13:55:38Z</dcterms:modified>
  <cp:revision>33</cp:revision>
  <dc:subject/>
  <dc:title>Тело Вращения - цилиндр</dc:title>
</cp:coreProperties>
</file>